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4FB-3B34-4899-A950-7E434C7F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E15-1C2A-4B7F-B05F-4B9BD77D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116-D2FD-440F-B7EC-55CDA36D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D1F-2E2B-4ED5-B732-347762D1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BEB-EF48-4903-A52A-C70F5203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517-4CF8-4EDE-A297-3AC51F52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806-249D-48B1-9491-DCA20483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339-A4C0-47D1-BD25-87FDBF7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17F-3043-4C8A-9AB6-E1FE3ED5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E85-282A-4EB7-8194-F9F5FC8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BDF-504E-4DFC-B494-8EB2A31C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8A0-F756-4418-9584-6F9162D9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FDF2-5F26-42CE-B0F2-DB85956A1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OF MATCHED DATA OVER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838080" y="19810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838080" y="685800"/>
            <a:ext cx="762012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19320" y="60199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4343400"/>
            <a:ext cx="769644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371600" y="3995640"/>
            <a:ext cx="4495680" cy="38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 flipV="1">
            <a:off x="3351960" y="5562720"/>
            <a:ext cx="541044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867280"/>
            <a:ext cx="24386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22440" y="311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37320" y="3035160"/>
            <a:ext cx="74872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…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971800"/>
            <a:ext cx="7543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838080" y="1295280"/>
            <a:ext cx="76964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762120" y="914400"/>
            <a:ext cx="761976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8120" y="4140360"/>
            <a:ext cx="84837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 P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BP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256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5880" y="464832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46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838080" y="68580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914400" y="1143000"/>
            <a:ext cx="7467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7621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21240" y="3340080"/>
            <a:ext cx="101520" cy="17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37339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100 s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666880" y="441972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5:02:28Z</dcterms:modified>
  <cp:revision>90</cp:revision>
  <dc:subject/>
  <dc:title>The Art in the State of the Art</dc:title>
</cp:coreProperties>
</file>